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120" y="736200"/>
            <a:ext cx="49100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2CB9-11E3-4BAA-A641-38FE8721D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E79C-0DD8-423C-AFAC-10BB3E065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1FE8-E794-43A4-A30F-DE747B439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17AF-E51D-44ED-894F-ECFFAF08F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0B43-9C5E-4AFF-A506-E8FFE1860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3CEC-E80C-4759-BE43-748D148D1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D47B-4A25-4A1D-8140-7E154BD5E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EC7E-D074-4A84-95CC-B8F62A304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1840" cy="36831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67800" y="4664160"/>
            <a:ext cx="53341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AD95A590-B687-4CA2-83AA-FA8EAC2F365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DAB7-0AC4-4852-B448-B0EF5DE9D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1E55-0F5B-4F85-BAB4-0E9F5C06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B689-9F3C-46E1-A59C-62777DD84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80F8-D74E-43DD-9215-CAD8B23A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EA61-A60B-4E23-A6D8-709AA6CE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4AAD-F0AC-4255-A7C1-D9FB7802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C925-9203-4A90-A7BE-6E349C7E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6722-A5E4-482E-B8D2-44101642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0C10-AD7A-46F1-8FF0-FD101C79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9137-B448-4B6A-AF0C-44B36461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CF94-E09B-496E-B05D-5FCE2D5B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E97C-6EF2-4378-BF87-0BB70BB2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CD4D-001C-42AC-96D1-849CF7B34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end malaria"/>
          <p:cNvPicPr/>
          <p:nvPr/>
        </p:nvPicPr>
        <p:blipFill>
          <a:blip r:embed="rId2"/>
          <a:stretch/>
        </p:blipFill>
        <p:spPr>
          <a:xfrm>
            <a:off x="0" y="0"/>
            <a:ext cx="1733400" cy="2857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  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九章孢子虫</a:t>
            </a:r>
            <a:br>
              <a:rPr sz="4800"/>
            </a:b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Sporozoans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一节  疟原虫</a:t>
            </a:r>
            <a:br>
              <a:rPr sz="4800"/>
            </a:br>
            <a:r>
              <a:rPr b="1" i="1" lang="en-US" sz="4800" spc="-1" strike="noStrike">
                <a:solidFill>
                  <a:srgbClr val="006600"/>
                </a:solidFill>
                <a:latin typeface="宋体"/>
              </a:rPr>
              <a:t>Plasmodi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5373360"/>
            <a:ext cx="640872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1" descr=""/>
          <p:cNvPicPr/>
          <p:nvPr/>
        </p:nvPicPr>
        <p:blipFill>
          <a:blip r:embed="rId2"/>
          <a:srcRect l="2356" t="4644" r="7002" b="0"/>
          <a:stretch/>
        </p:blipFill>
        <p:spPr>
          <a:xfrm>
            <a:off x="2489040" y="2502000"/>
            <a:ext cx="5753160" cy="28652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"/>
          <p:cNvSpPr/>
          <p:nvPr/>
        </p:nvSpPr>
        <p:spPr>
          <a:xfrm>
            <a:off x="343080" y="324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8380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疟疾发作时间</a:t>
            </a: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与红内期裂体生殖周期一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449280" y="1843200"/>
            <a:ext cx="815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v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m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72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f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36 ~ 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o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57200" y="2590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燃与复发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80880" y="3260880"/>
            <a:ext cx="80773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再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由于疟疾治疗不彻底，或机体产生的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杀死大部分虫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前提下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残存于红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疟原虫大量增殖而又引起疟疾发作，这一现象称为再燃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33520" y="1238400"/>
            <a:ext cx="80769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复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经药物治疗或免疫作用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红内期的疟原虫全部被杀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情况下，肝细胞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迟发型子孢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眠体复苏，经裂体生殖产生的裂殖子侵入红细胞发育，再次引起疟疾发作，这一现象称为复发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190440" y="266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贫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209520" y="74304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直接破坏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295280" y="1298520"/>
            <a:ext cx="4648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网织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295280" y="1851120"/>
            <a:ext cx="4496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衰老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295280" y="2403360"/>
            <a:ext cx="4343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所有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1143000" y="16002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09520" y="2976480"/>
            <a:ext cx="556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脾大，脾功能亢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209520" y="3624120"/>
            <a:ext cx="5334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骨髓造血功能受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209520" y="426708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免疫溶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304920" y="5010120"/>
            <a:ext cx="7848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虫体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—Ab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附着于正常红细胞表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C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304920" y="5661000"/>
            <a:ext cx="883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细胞隐蔽抗原暴露，产生自身抗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171360" y="355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71360" y="91440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及其代谢产物刺激巨噬细胞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71360" y="151452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充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71360" y="21099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纤维组织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171360" y="2890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凶险型疟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死亡率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52280" y="3463920"/>
            <a:ext cx="8744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发人群：无免疫力的人群及儿童；恶性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71360" y="4059360"/>
            <a:ext cx="849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型：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脑型（常见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171360" y="4929120"/>
            <a:ext cx="5181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肾病综合征（疟性肾病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38120" y="53895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型超敏反应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304920" y="533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三、免疫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09480" y="1590840"/>
            <a:ext cx="79250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带虫免疫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人体感染疟原虫后可诱导机体产生一定的免疫力，这种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可杀伤体内已寄生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的疟原虫，使虫数减少，症状消失，对再感染有一定的抵抗力，无疟原虫免疫力也消失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04920" y="28584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四、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" y="10256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血涂片（厚、薄血涂片两种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76280" y="1714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血清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04920" y="2441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五、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57200" y="3214800"/>
            <a:ext cx="830592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染源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周血中有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现症患者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533520" y="4332240"/>
            <a:ext cx="44672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按蚊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中华按蚊、嗜人按蚊、微小按蚊、大劣按蚊等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49" name="组合 7"/>
          <p:cNvGrpSpPr/>
          <p:nvPr/>
        </p:nvGrpSpPr>
        <p:grpSpPr>
          <a:xfrm>
            <a:off x="5052960" y="3860640"/>
            <a:ext cx="4091040" cy="2286000"/>
            <a:chOff x="5052960" y="3860640"/>
            <a:chExt cx="4091040" cy="2286000"/>
          </a:xfrm>
        </p:grpSpPr>
        <p:pic>
          <p:nvPicPr>
            <p:cNvPr id="250" name="Picture 3" descr="中华按蚊"/>
            <p:cNvPicPr/>
            <p:nvPr/>
          </p:nvPicPr>
          <p:blipFill>
            <a:blip r:embed="rId2"/>
            <a:stretch/>
          </p:blipFill>
          <p:spPr>
            <a:xfrm>
              <a:off x="5936400" y="3861000"/>
              <a:ext cx="3207600" cy="22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4" descr="ANWEN"/>
            <p:cNvPicPr/>
            <p:nvPr/>
          </p:nvPicPr>
          <p:blipFill>
            <a:blip r:embed="rId3"/>
            <a:stretch/>
          </p:blipFill>
          <p:spPr>
            <a:xfrm>
              <a:off x="5052960" y="3860640"/>
              <a:ext cx="2095560" cy="22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Rectangle 3"/>
          <p:cNvSpPr/>
          <p:nvPr/>
        </p:nvSpPr>
        <p:spPr>
          <a:xfrm>
            <a:off x="468360" y="6143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易感人群：儿童、免疫力低下的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8" descr="金鸡纳.jpg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052960" y="3857760"/>
            <a:ext cx="3911760" cy="28731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4"/>
          <p:cNvSpPr/>
          <p:nvPr/>
        </p:nvSpPr>
        <p:spPr>
          <a:xfrm>
            <a:off x="457200" y="428760"/>
            <a:ext cx="83059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因素：适宜蚊生长的地区、季节；人口的流动、迁徙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04920" y="17161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六、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57200" y="2475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及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914400" y="3154320"/>
            <a:ext cx="49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内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氯喹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奎宁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914400" y="384984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外期及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伯喹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9" name="TextBox 12"/>
          <p:cNvSpPr/>
          <p:nvPr/>
        </p:nvSpPr>
        <p:spPr>
          <a:xfrm>
            <a:off x="966960" y="4433760"/>
            <a:ext cx="75657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以青蒿素类药物为基础的复方或联合用药（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rtemisinin-based combination     therapy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，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CT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0" name="矩形 9"/>
          <p:cNvSpPr/>
          <p:nvPr/>
        </p:nvSpPr>
        <p:spPr>
          <a:xfrm>
            <a:off x="5691240" y="3149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蒿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61" name="图片 10" descr="青蒿.jpg"/>
          <p:cNvPicPr/>
          <p:nvPr/>
        </p:nvPicPr>
        <p:blipFill>
          <a:blip r:embed="rId3"/>
          <a:srcRect l="0" t="0" r="0" b="3577"/>
          <a:stretch/>
        </p:blipFill>
        <p:spPr>
          <a:xfrm>
            <a:off x="7000920" y="1000080"/>
            <a:ext cx="190512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57200" y="5000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灭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457200" y="1224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健康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24000" y="2052720"/>
            <a:ext cx="872460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用药：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乙胺嘧啶（杀红外期）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氯喹 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d1d6f"/>
                </a:solidFill>
                <a:latin typeface="宋体"/>
              </a:rPr>
              <a:t>第二节  刚地弓形虫</a:t>
            </a:r>
            <a:br>
              <a:rPr sz="6000"/>
            </a:br>
            <a:r>
              <a:rPr b="1" i="1" lang="en-US" sz="6000" spc="-1" strike="noStrike">
                <a:solidFill>
                  <a:srgbClr val="6d1d6f"/>
                </a:solidFill>
                <a:latin typeface="Times New Roman"/>
              </a:rPr>
              <a:t>Toxoplasma gondi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439092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组合 15"/>
          <p:cNvGrpSpPr/>
          <p:nvPr/>
        </p:nvGrpSpPr>
        <p:grpSpPr>
          <a:xfrm>
            <a:off x="3387600" y="3807000"/>
            <a:ext cx="5000760" cy="2838240"/>
            <a:chOff x="3387600" y="3807000"/>
            <a:chExt cx="5000760" cy="2838240"/>
          </a:xfrm>
        </p:grpSpPr>
        <p:pic>
          <p:nvPicPr>
            <p:cNvPr id="268" name="图片 14" descr="弓形虫假包囊.jpg"/>
            <p:cNvPicPr/>
            <p:nvPr/>
          </p:nvPicPr>
          <p:blipFill>
            <a:blip r:embed="rId2"/>
            <a:stretch/>
          </p:blipFill>
          <p:spPr>
            <a:xfrm>
              <a:off x="3387600" y="3807000"/>
              <a:ext cx="2362320" cy="233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图片 13" descr="滋养体gongxch.jpg"/>
            <p:cNvPicPr/>
            <p:nvPr/>
          </p:nvPicPr>
          <p:blipFill>
            <a:blip r:embed="rId3"/>
            <a:stretch/>
          </p:blipFill>
          <p:spPr>
            <a:xfrm>
              <a:off x="6102360" y="3847320"/>
              <a:ext cx="2286000" cy="279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组合 7"/>
          <p:cNvGrpSpPr/>
          <p:nvPr/>
        </p:nvGrpSpPr>
        <p:grpSpPr>
          <a:xfrm>
            <a:off x="3564000" y="2203560"/>
            <a:ext cx="5451480" cy="4109760"/>
            <a:chOff x="3564000" y="2203560"/>
            <a:chExt cx="5451480" cy="4109760"/>
          </a:xfrm>
        </p:grpSpPr>
        <p:pic>
          <p:nvPicPr>
            <p:cNvPr id="271" name="图片 6" descr=""/>
            <p:cNvPicPr/>
            <p:nvPr/>
          </p:nvPicPr>
          <p:blipFill>
            <a:blip r:embed="rId4"/>
            <a:stretch/>
          </p:blipFill>
          <p:spPr>
            <a:xfrm>
              <a:off x="3564000" y="4435560"/>
              <a:ext cx="2340720" cy="173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" name="组合 11"/>
            <p:cNvGrpSpPr/>
            <p:nvPr/>
          </p:nvGrpSpPr>
          <p:grpSpPr>
            <a:xfrm>
              <a:off x="3786120" y="2203560"/>
              <a:ext cx="5229360" cy="4109760"/>
              <a:chOff x="3786120" y="2203560"/>
              <a:chExt cx="5229360" cy="4109760"/>
            </a:xfrm>
          </p:grpSpPr>
          <p:pic>
            <p:nvPicPr>
              <p:cNvPr id="273" name="图片 8" descr="滋养体gongxch.jpg"/>
              <p:cNvPicPr/>
              <p:nvPr/>
            </p:nvPicPr>
            <p:blipFill>
              <a:blip r:embed="rId5"/>
              <a:stretch/>
            </p:blipFill>
            <p:spPr>
              <a:xfrm>
                <a:off x="3786120" y="2203560"/>
                <a:ext cx="2286000" cy="21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图片 9" descr="弓形虫速殖子分裂繁殖.jpg"/>
              <p:cNvPicPr/>
              <p:nvPr/>
            </p:nvPicPr>
            <p:blipFill>
              <a:blip r:embed="rId6"/>
              <a:stretch/>
            </p:blipFill>
            <p:spPr>
              <a:xfrm>
                <a:off x="6072120" y="4346280"/>
                <a:ext cx="2943360" cy="19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图片 10" descr="弓形虫滋养体（IFA试验）.jpg"/>
              <p:cNvPicPr/>
              <p:nvPr/>
            </p:nvPicPr>
            <p:blipFill>
              <a:blip r:embed="rId7"/>
              <a:srcRect l="0" t="0" r="5313" b="6896"/>
              <a:stretch/>
            </p:blipFill>
            <p:spPr>
              <a:xfrm>
                <a:off x="6240960" y="2203560"/>
                <a:ext cx="2546280" cy="192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6" name="Text Box 6"/>
          <p:cNvSpPr/>
          <p:nvPr/>
        </p:nvSpPr>
        <p:spPr>
          <a:xfrm>
            <a:off x="625320" y="3251160"/>
            <a:ext cx="823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假包囊：由宿主细胞包绕的虫体，其内滋养体称速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625320" y="2190600"/>
            <a:ext cx="81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：圆形或椭圆形，外层为虫体分泌的囊壁，其内滋养体称缓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25320" y="669960"/>
            <a:ext cx="830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滋养体：新月形，一端较尖，一端钝圆。吉姆萨染色后核呈紫红色，位于虫体中央偏后，胞质呈蓝色，有少量颗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79" name="图片 12" descr="包囊gongxch.jpg"/>
          <p:cNvPicPr/>
          <p:nvPr/>
        </p:nvPicPr>
        <p:blipFill>
          <a:blip r:embed="rId8"/>
          <a:stretch/>
        </p:blipFill>
        <p:spPr>
          <a:xfrm>
            <a:off x="5715000" y="2928960"/>
            <a:ext cx="3352680" cy="3556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28760" y="26640"/>
            <a:ext cx="2133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428760" y="546264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885960" y="60642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核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25320" y="4302000"/>
            <a:ext cx="808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囊：有性生殖产物，椭圆形，内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孢子囊，每个孢子囊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新月形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9"/>
          <a:stretch/>
        </p:blipFill>
        <p:spPr>
          <a:xfrm>
            <a:off x="5246640" y="3786120"/>
            <a:ext cx="3760920" cy="280980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合 18"/>
          <p:cNvGrpSpPr/>
          <p:nvPr/>
        </p:nvGrpSpPr>
        <p:grpSpPr>
          <a:xfrm>
            <a:off x="4786200" y="5473800"/>
            <a:ext cx="2905200" cy="1071360"/>
            <a:chOff x="4786200" y="5473800"/>
            <a:chExt cx="2905200" cy="1071360"/>
          </a:xfrm>
        </p:grpSpPr>
        <p:pic>
          <p:nvPicPr>
            <p:cNvPr id="286" name="图片 16" descr="弓形虫卵囊.jpg"/>
            <p:cNvPicPr/>
            <p:nvPr/>
          </p:nvPicPr>
          <p:blipFill>
            <a:blip r:embed="rId10"/>
            <a:stretch/>
          </p:blipFill>
          <p:spPr>
            <a:xfrm>
              <a:off x="4786200" y="5473800"/>
              <a:ext cx="150012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图片 17" descr="oocyst.jpg"/>
            <p:cNvPicPr/>
            <p:nvPr/>
          </p:nvPicPr>
          <p:blipFill>
            <a:blip r:embed="rId11"/>
            <a:stretch/>
          </p:blipFill>
          <p:spPr>
            <a:xfrm>
              <a:off x="6786720" y="5545080"/>
              <a:ext cx="904680" cy="942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044720" y="1052640"/>
            <a:ext cx="7416720" cy="33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人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四种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间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vivax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恶性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falciparum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malaria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卵形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oval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1246320" y="4395960"/>
            <a:ext cx="7200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诺氏猴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Plasmodium knowlesi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）         对人易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3505320" y="1752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卵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350532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452760" y="2743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假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4648320" y="1981080"/>
            <a:ext cx="380880" cy="1067040"/>
          </a:xfrm>
          <a:custGeom>
            <a:avLst/>
            <a:gdLst>
              <a:gd name="textAreaLeft" fmla="*/ 0 w 380880"/>
              <a:gd name="textAreaRight" fmla="*/ 137520 w 3808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92" name="Group 8"/>
          <p:cNvGrpSpPr/>
          <p:nvPr/>
        </p:nvGrpSpPr>
        <p:grpSpPr>
          <a:xfrm>
            <a:off x="4876560" y="2521080"/>
            <a:ext cx="839880" cy="1517400"/>
            <a:chOff x="4876560" y="2521080"/>
            <a:chExt cx="839880" cy="1517400"/>
          </a:xfrm>
        </p:grpSpPr>
        <p:sp>
          <p:nvSpPr>
            <p:cNvPr id="293" name="Arc 6"/>
            <p:cNvSpPr/>
            <p:nvPr/>
          </p:nvSpPr>
          <p:spPr>
            <a:xfrm>
              <a:off x="5046840" y="252108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4" name="Line 7"/>
            <p:cNvSpPr/>
            <p:nvPr/>
          </p:nvSpPr>
          <p:spPr>
            <a:xfrm flipH="1">
              <a:off x="4876560" y="403848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5" name="Group 9"/>
          <p:cNvGrpSpPr/>
          <p:nvPr/>
        </p:nvGrpSpPr>
        <p:grpSpPr>
          <a:xfrm>
            <a:off x="4876560" y="920520"/>
            <a:ext cx="839880" cy="1517400"/>
            <a:chOff x="4876560" y="920520"/>
            <a:chExt cx="839880" cy="1517400"/>
          </a:xfrm>
        </p:grpSpPr>
        <p:sp>
          <p:nvSpPr>
            <p:cNvPr id="296" name="Arc 10"/>
            <p:cNvSpPr/>
            <p:nvPr/>
          </p:nvSpPr>
          <p:spPr>
            <a:xfrm flipV="1">
              <a:off x="5046840" y="92016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H="1">
              <a:off x="4876560" y="92052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2209680" y="914400"/>
            <a:ext cx="1297080" cy="1136520"/>
            <a:chOff x="2209680" y="914400"/>
            <a:chExt cx="1297080" cy="1136520"/>
          </a:xfrm>
        </p:grpSpPr>
        <p:sp>
          <p:nvSpPr>
            <p:cNvPr id="299" name="Arc 13"/>
            <p:cNvSpPr/>
            <p:nvPr/>
          </p:nvSpPr>
          <p:spPr>
            <a:xfrm flipH="1">
              <a:off x="2209320" y="914400"/>
              <a:ext cx="1034280" cy="113652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>
              <a:off x="3271680" y="2050920"/>
              <a:ext cx="2350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1" name="Group 15"/>
          <p:cNvGrpSpPr/>
          <p:nvPr/>
        </p:nvGrpSpPr>
        <p:grpSpPr>
          <a:xfrm>
            <a:off x="2134440" y="2520720"/>
            <a:ext cx="1372680" cy="1517400"/>
            <a:chOff x="2134440" y="2520720"/>
            <a:chExt cx="1372680" cy="1517400"/>
          </a:xfrm>
        </p:grpSpPr>
        <p:sp>
          <p:nvSpPr>
            <p:cNvPr id="302" name="Arc 16"/>
            <p:cNvSpPr/>
            <p:nvPr/>
          </p:nvSpPr>
          <p:spPr>
            <a:xfrm rot="10800000">
              <a:off x="2134440" y="2520720"/>
              <a:ext cx="109476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3258360" y="2520720"/>
              <a:ext cx="24876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4" name="Group 18"/>
          <p:cNvGrpSpPr/>
          <p:nvPr/>
        </p:nvGrpSpPr>
        <p:grpSpPr>
          <a:xfrm>
            <a:off x="2460960" y="2926440"/>
            <a:ext cx="1099080" cy="1117440"/>
            <a:chOff x="2460960" y="2926440"/>
            <a:chExt cx="1099080" cy="1117440"/>
          </a:xfrm>
        </p:grpSpPr>
        <p:sp>
          <p:nvSpPr>
            <p:cNvPr id="305" name="Arc 19"/>
            <p:cNvSpPr/>
            <p:nvPr/>
          </p:nvSpPr>
          <p:spPr>
            <a:xfrm rot="11180400">
              <a:off x="2515680" y="2966760"/>
              <a:ext cx="789840" cy="103644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6" name="Line 20"/>
            <p:cNvSpPr/>
            <p:nvPr/>
          </p:nvSpPr>
          <p:spPr>
            <a:xfrm>
              <a:off x="3381480" y="3016080"/>
              <a:ext cx="178560" cy="1980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7" name="Group 24"/>
          <p:cNvGrpSpPr/>
          <p:nvPr/>
        </p:nvGrpSpPr>
        <p:grpSpPr>
          <a:xfrm>
            <a:off x="5535360" y="4043520"/>
            <a:ext cx="1654560" cy="1666440"/>
            <a:chOff x="5535360" y="4043520"/>
            <a:chExt cx="1654560" cy="1666440"/>
          </a:xfrm>
        </p:grpSpPr>
        <p:sp>
          <p:nvSpPr>
            <p:cNvPr id="308" name="Arc 22"/>
            <p:cNvSpPr/>
            <p:nvPr/>
          </p:nvSpPr>
          <p:spPr>
            <a:xfrm rot="3072000">
              <a:off x="5752800" y="4305240"/>
              <a:ext cx="121932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 flipV="1">
              <a:off x="5772960" y="505332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0" name="Group 25"/>
          <p:cNvGrpSpPr/>
          <p:nvPr/>
        </p:nvGrpSpPr>
        <p:grpSpPr>
          <a:xfrm>
            <a:off x="1420560" y="3967560"/>
            <a:ext cx="1654560" cy="1666080"/>
            <a:chOff x="1420560" y="3967560"/>
            <a:chExt cx="1654560" cy="1666080"/>
          </a:xfrm>
        </p:grpSpPr>
        <p:sp>
          <p:nvSpPr>
            <p:cNvPr id="311" name="Arc 26"/>
            <p:cNvSpPr/>
            <p:nvPr/>
          </p:nvSpPr>
          <p:spPr>
            <a:xfrm rot="13872000">
              <a:off x="1638360" y="4228920"/>
              <a:ext cx="121896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>
              <a:off x="2742480" y="450540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3" name="Group 34"/>
          <p:cNvGrpSpPr/>
          <p:nvPr/>
        </p:nvGrpSpPr>
        <p:grpSpPr>
          <a:xfrm>
            <a:off x="3657600" y="4724280"/>
            <a:ext cx="1371600" cy="304920"/>
            <a:chOff x="3657600" y="4724280"/>
            <a:chExt cx="1371600" cy="304920"/>
          </a:xfrm>
        </p:grpSpPr>
        <p:grpSp>
          <p:nvGrpSpPr>
            <p:cNvPr id="314" name="Group 30"/>
            <p:cNvGrpSpPr/>
            <p:nvPr/>
          </p:nvGrpSpPr>
          <p:grpSpPr>
            <a:xfrm>
              <a:off x="3657600" y="4724280"/>
              <a:ext cx="1371600" cy="76320"/>
              <a:chOff x="3657600" y="4724280"/>
              <a:chExt cx="1371600" cy="76320"/>
            </a:xfrm>
          </p:grpSpPr>
          <p:sp>
            <p:nvSpPr>
              <p:cNvPr id="315" name="Line 28"/>
              <p:cNvSpPr/>
              <p:nvPr/>
            </p:nvSpPr>
            <p:spPr>
              <a:xfrm>
                <a:off x="3657600" y="480060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6" name="Line 29"/>
              <p:cNvSpPr/>
              <p:nvPr/>
            </p:nvSpPr>
            <p:spPr>
              <a:xfrm flipH="1" flipV="1">
                <a:off x="4876560" y="47242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317" name="Group 31"/>
            <p:cNvGrpSpPr/>
            <p:nvPr/>
          </p:nvGrpSpPr>
          <p:grpSpPr>
            <a:xfrm>
              <a:off x="3657600" y="4952880"/>
              <a:ext cx="1371600" cy="76320"/>
              <a:chOff x="3657600" y="4952880"/>
              <a:chExt cx="1371600" cy="76320"/>
            </a:xfrm>
          </p:grpSpPr>
          <p:sp>
            <p:nvSpPr>
              <p:cNvPr id="318" name="Line 32"/>
              <p:cNvSpPr/>
              <p:nvPr/>
            </p:nvSpPr>
            <p:spPr>
              <a:xfrm flipH="1">
                <a:off x="3657600" y="495288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9" name="Line 33"/>
              <p:cNvSpPr/>
              <p:nvPr/>
            </p:nvSpPr>
            <p:spPr>
              <a:xfrm>
                <a:off x="3657960" y="49528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320" name="Text Box 35"/>
          <p:cNvSpPr/>
          <p:nvPr/>
        </p:nvSpPr>
        <p:spPr>
          <a:xfrm>
            <a:off x="3276720" y="6094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1" name="Text Box 36"/>
          <p:cNvSpPr/>
          <p:nvPr/>
        </p:nvSpPr>
        <p:spPr>
          <a:xfrm>
            <a:off x="3276720" y="374796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2" name="Text Box 37"/>
          <p:cNvSpPr/>
          <p:nvPr/>
        </p:nvSpPr>
        <p:spPr>
          <a:xfrm>
            <a:off x="2057400" y="4586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间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3" name="Text Box 38"/>
          <p:cNvSpPr/>
          <p:nvPr/>
        </p:nvSpPr>
        <p:spPr>
          <a:xfrm>
            <a:off x="502920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终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24" name="Group 42"/>
          <p:cNvGrpSpPr/>
          <p:nvPr/>
        </p:nvGrpSpPr>
        <p:grpSpPr>
          <a:xfrm>
            <a:off x="5562720" y="914400"/>
            <a:ext cx="609480" cy="1069200"/>
            <a:chOff x="5562720" y="914400"/>
            <a:chExt cx="609480" cy="1069200"/>
          </a:xfrm>
        </p:grpSpPr>
        <p:sp>
          <p:nvSpPr>
            <p:cNvPr id="325" name="Text Box 39"/>
            <p:cNvSpPr/>
            <p:nvPr/>
          </p:nvSpPr>
          <p:spPr>
            <a:xfrm>
              <a:off x="5562720" y="914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猫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6" name="Text Box 40"/>
            <p:cNvSpPr/>
            <p:nvPr/>
          </p:nvSpPr>
          <p:spPr>
            <a:xfrm>
              <a:off x="5638680" y="1218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食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7" name="Text Box 41"/>
            <p:cNvSpPr/>
            <p:nvPr/>
          </p:nvSpPr>
          <p:spPr>
            <a:xfrm>
              <a:off x="5638680" y="1523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入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28" name="Text Box 44"/>
          <p:cNvSpPr/>
          <p:nvPr/>
        </p:nvSpPr>
        <p:spPr>
          <a:xfrm>
            <a:off x="5654520" y="2590920"/>
            <a:ext cx="219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、猫及其他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物食入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9" name="Text Box 48"/>
          <p:cNvSpPr/>
          <p:nvPr/>
        </p:nvSpPr>
        <p:spPr>
          <a:xfrm>
            <a:off x="1523880" y="2438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30" name="Text Box 49"/>
          <p:cNvSpPr/>
          <p:nvPr/>
        </p:nvSpPr>
        <p:spPr>
          <a:xfrm>
            <a:off x="2263680" y="3048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弱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3"/>
          <p:cNvGrpSpPr/>
          <p:nvPr/>
        </p:nvGrpSpPr>
        <p:grpSpPr>
          <a:xfrm>
            <a:off x="22320" y="2071800"/>
            <a:ext cx="9107280" cy="4646520"/>
            <a:chOff x="22320" y="2071800"/>
            <a:chExt cx="9107280" cy="4646520"/>
          </a:xfrm>
        </p:grpSpPr>
        <p:grpSp>
          <p:nvGrpSpPr>
            <p:cNvPr id="332" name="组合 1"/>
            <p:cNvGrpSpPr/>
            <p:nvPr/>
          </p:nvGrpSpPr>
          <p:grpSpPr>
            <a:xfrm>
              <a:off x="22320" y="2071800"/>
              <a:ext cx="9107280" cy="4646520"/>
              <a:chOff x="22320" y="2071800"/>
              <a:chExt cx="9107280" cy="4646520"/>
            </a:xfrm>
          </p:grpSpPr>
          <p:pic>
            <p:nvPicPr>
              <p:cNvPr id="333" name="图片 9" descr="脑积水（B）.jpg"/>
              <p:cNvPicPr/>
              <p:nvPr/>
            </p:nvPicPr>
            <p:blipFill>
              <a:blip r:embed="rId2"/>
              <a:stretch/>
            </p:blipFill>
            <p:spPr>
              <a:xfrm>
                <a:off x="3897000" y="4437000"/>
                <a:ext cx="3718800" cy="227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图片 8" descr="脑钙化.jpg"/>
              <p:cNvPicPr/>
              <p:nvPr/>
            </p:nvPicPr>
            <p:blipFill>
              <a:blip r:embed="rId3"/>
              <a:stretch/>
            </p:blipFill>
            <p:spPr>
              <a:xfrm>
                <a:off x="22320" y="4437000"/>
                <a:ext cx="3801600" cy="228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图片 10" descr="脑积水.jpg"/>
              <p:cNvPicPr/>
              <p:nvPr/>
            </p:nvPicPr>
            <p:blipFill>
              <a:blip r:embed="rId4"/>
              <a:srcRect l="21120" t="0" r="23210" b="0"/>
              <a:stretch/>
            </p:blipFill>
            <p:spPr>
              <a:xfrm>
                <a:off x="7058160" y="2071800"/>
                <a:ext cx="2071440" cy="2921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6" name="TextBox 2"/>
            <p:cNvSpPr/>
            <p:nvPr/>
          </p:nvSpPr>
          <p:spPr>
            <a:xfrm>
              <a:off x="166320" y="476208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钙化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7" name="TextBox 11"/>
            <p:cNvSpPr/>
            <p:nvPr/>
          </p:nvSpPr>
          <p:spPr>
            <a:xfrm>
              <a:off x="4013280" y="475236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8" name="TextBox 12"/>
            <p:cNvSpPr/>
            <p:nvPr/>
          </p:nvSpPr>
          <p:spPr>
            <a:xfrm>
              <a:off x="7517880" y="452160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39" name="Text Box 3"/>
          <p:cNvSpPr/>
          <p:nvPr/>
        </p:nvSpPr>
        <p:spPr>
          <a:xfrm>
            <a:off x="457200" y="7920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阶段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卵囊、包囊、假包囊、滋养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457200" y="138096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方式多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经口、胎盘，经血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304920" y="1984320"/>
            <a:ext cx="4572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457200" y="18900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宿主广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457200" y="2652840"/>
            <a:ext cx="66150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先天性弓形虫病：经胎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新生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眼弓形虫病、中枢神经系统弓形虫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8"/>
          <p:cNvSpPr/>
          <p:nvPr/>
        </p:nvSpPr>
        <p:spPr>
          <a:xfrm>
            <a:off x="457200" y="3571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获得性弓形虫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228600" y="1206360"/>
            <a:ext cx="868680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928a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机会致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正常人受染后不产生明显症状，呈隐性感染，当机体免疫力低下或缺陷时出现急性重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1098720" y="3492360"/>
            <a:ext cx="66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刚地弓形虫是</a:t>
            </a: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机会致病寄生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77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5" dur="770" fill="hold"/>
                                        <p:tgtEl>
                                          <p:spTgt spid="3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7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9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5"/>
          <p:cNvSpPr/>
          <p:nvPr/>
        </p:nvSpPr>
        <p:spPr>
          <a:xfrm>
            <a:off x="108000" y="282600"/>
            <a:ext cx="307800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速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（主要致病阶段）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572280" y="287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核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6072120" y="249120"/>
            <a:ext cx="2714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破坏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淋巴细胞、巨噬细胞浸润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6286680" y="2430360"/>
            <a:ext cx="221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的急性炎症和坏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cxnSp>
        <p:nvCxnSpPr>
          <p:cNvPr id="351" name="直接箭头连接符 11"/>
          <p:cNvCxnSpPr/>
          <p:nvPr/>
        </p:nvCxnSpPr>
        <p:spPr>
          <a:xfrm>
            <a:off x="2270160" y="573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2" name="直接箭头连接符 12"/>
          <p:cNvCxnSpPr/>
          <p:nvPr/>
        </p:nvCxnSpPr>
        <p:spPr>
          <a:xfrm>
            <a:off x="5005440" y="546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3" name="直接箭头连接符 13"/>
          <p:cNvCxnSpPr/>
          <p:nvPr/>
        </p:nvCxnSpPr>
        <p:spPr>
          <a:xfrm flipH="1">
            <a:off x="7284240" y="1814040"/>
            <a:ext cx="2520" cy="716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354" name="Group 21"/>
          <p:cNvGrpSpPr/>
          <p:nvPr/>
        </p:nvGrpSpPr>
        <p:grpSpPr>
          <a:xfrm>
            <a:off x="108000" y="3241800"/>
            <a:ext cx="3997440" cy="2536560"/>
            <a:chOff x="108000" y="3241800"/>
            <a:chExt cx="3997440" cy="2536560"/>
          </a:xfrm>
        </p:grpSpPr>
        <p:sp>
          <p:nvSpPr>
            <p:cNvPr id="355" name="Text Box 14"/>
            <p:cNvSpPr/>
            <p:nvPr/>
          </p:nvSpPr>
          <p:spPr>
            <a:xfrm>
              <a:off x="108000" y="3241800"/>
              <a:ext cx="399744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（缓殖子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Times New Roman"/>
                </a:rPr>
                <a:t>（慢性感染主要形式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56" name="Rectangle 15"/>
            <p:cNvSpPr/>
            <p:nvPr/>
          </p:nvSpPr>
          <p:spPr>
            <a:xfrm>
              <a:off x="1214280" y="52578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压迫周围组织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57" name="直接箭头连接符 42"/>
            <p:cNvCxnSpPr/>
            <p:nvPr/>
          </p:nvCxnSpPr>
          <p:spPr>
            <a:xfrm flipH="1">
              <a:off x="1972440" y="4498560"/>
              <a:ext cx="2520" cy="716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58" name="Group 22"/>
          <p:cNvGrpSpPr/>
          <p:nvPr/>
        </p:nvGrpSpPr>
        <p:grpSpPr>
          <a:xfrm>
            <a:off x="3131640" y="5229360"/>
            <a:ext cx="5493240" cy="541080"/>
            <a:chOff x="3131640" y="5229360"/>
            <a:chExt cx="5493240" cy="541080"/>
          </a:xfrm>
        </p:grpSpPr>
        <p:sp>
          <p:nvSpPr>
            <p:cNvPr id="359" name="Rectangle 17"/>
            <p:cNvSpPr/>
            <p:nvPr/>
          </p:nvSpPr>
          <p:spPr>
            <a:xfrm>
              <a:off x="4443840" y="52498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破裂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60" name="Rectangle 23"/>
            <p:cNvSpPr/>
            <p:nvPr/>
          </p:nvSpPr>
          <p:spPr>
            <a:xfrm>
              <a:off x="6792840" y="5229360"/>
              <a:ext cx="183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虫体扩散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61" name="直接箭头连接符 44"/>
            <p:cNvCxnSpPr/>
            <p:nvPr/>
          </p:nvCxnSpPr>
          <p:spPr>
            <a:xfrm>
              <a:off x="5859360" y="5513400"/>
              <a:ext cx="100080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62" name="直接箭头连接符 46"/>
            <p:cNvCxnSpPr/>
            <p:nvPr/>
          </p:nvCxnSpPr>
          <p:spPr>
            <a:xfrm>
              <a:off x="3131640" y="5532480"/>
              <a:ext cx="10011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 spd="slow">
    <p:random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0"/>
          <p:cNvSpPr/>
          <p:nvPr/>
        </p:nvSpPr>
        <p:spPr>
          <a:xfrm>
            <a:off x="762120" y="2602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侵染淋巴结、脑、眼、肺、心肌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304920" y="364500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 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457200" y="441648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762120" y="5097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取体液、活组织检查滋养体；动物接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67" name="图片 1" descr=""/>
          <p:cNvPicPr/>
          <p:nvPr/>
        </p:nvPicPr>
        <p:blipFill>
          <a:blip r:embed="rId2"/>
          <a:stretch/>
        </p:blipFill>
        <p:spPr>
          <a:xfrm>
            <a:off x="6645240" y="961920"/>
            <a:ext cx="2298600" cy="2646360"/>
          </a:xfrm>
          <a:prstGeom prst="rect">
            <a:avLst/>
          </a:prstGeom>
          <a:ln w="0">
            <a:noFill/>
          </a:ln>
        </p:spPr>
      </p:pic>
      <p:sp>
        <p:nvSpPr>
          <p:cNvPr id="368" name="矩形 2"/>
          <p:cNvSpPr/>
          <p:nvPr/>
        </p:nvSpPr>
        <p:spPr>
          <a:xfrm>
            <a:off x="539640" y="907920"/>
            <a:ext cx="820908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现为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淋巴结肿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不少病例在临床上被视为“不明原因淋巴结肿大”）、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发热、头痛、癫痫、视网膜脉络膜炎、视力下降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可全身反应或多器官损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6"/>
          <p:cNvSpPr/>
          <p:nvPr/>
        </p:nvSpPr>
        <p:spPr>
          <a:xfrm>
            <a:off x="457200" y="260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免疫学诊断：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G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04920" y="100800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755640" y="3141720"/>
            <a:ext cx="7381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终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猫、猫科动物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中间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择不严格，人及哺乳动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胎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输血均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5"/>
          <p:cNvSpPr/>
          <p:nvPr/>
        </p:nvSpPr>
        <p:spPr>
          <a:xfrm>
            <a:off x="324000" y="4724280"/>
            <a:ext cx="842472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孕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密切监测胎儿情况，必要时终止妊娠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螺旋霉素毒性低，在胎盘组织中浓度较高，且对胎儿无影响。常用于治疗妊娠期弓形虫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457200" y="500040"/>
            <a:ext cx="8458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加强对动物的监测、管理：尤其是灭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变不良饮食习惯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药物治疗：螺旋霉素、阿奇霉素、磺胺嘧啶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胺嘧啶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三节    隐孢子虫</a:t>
            </a:r>
            <a:r>
              <a:rPr b="1" i="1" lang="zh-CN" sz="54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5400"/>
            </a:b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ryptosporidium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990720" y="4230360"/>
            <a:ext cx="6400800" cy="6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矩形 8"/>
          <p:cNvSpPr/>
          <p:nvPr/>
        </p:nvSpPr>
        <p:spPr>
          <a:xfrm>
            <a:off x="947520" y="838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形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7" name="矩形 9"/>
          <p:cNvSpPr/>
          <p:nvPr/>
        </p:nvSpPr>
        <p:spPr>
          <a:xfrm>
            <a:off x="3949200" y="1459080"/>
            <a:ext cx="12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滋养体、裂殖体、配子体、</a:t>
            </a:r>
            <a:r>
              <a:rPr b="1" lang="zh-CN" sz="3200" spc="-1" strike="noStrike">
                <a:solidFill>
                  <a:srgbClr val="f62a08"/>
                </a:solidFill>
                <a:latin typeface="宋体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78" name="组合 12"/>
          <p:cNvGrpSpPr/>
          <p:nvPr/>
        </p:nvGrpSpPr>
        <p:grpSpPr>
          <a:xfrm>
            <a:off x="762120" y="2438280"/>
            <a:ext cx="5249880" cy="3633480"/>
            <a:chOff x="762120" y="2438280"/>
            <a:chExt cx="5249880" cy="3633480"/>
          </a:xfrm>
        </p:grpSpPr>
        <p:pic>
          <p:nvPicPr>
            <p:cNvPr id="379" name="图片 10" descr="隐孢子虫卵囊.jpg"/>
            <p:cNvPicPr/>
            <p:nvPr/>
          </p:nvPicPr>
          <p:blipFill>
            <a:blip r:embed="rId2"/>
            <a:stretch/>
          </p:blipFill>
          <p:spPr>
            <a:xfrm>
              <a:off x="990720" y="2438280"/>
              <a:ext cx="2883960" cy="29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矩形 11"/>
            <p:cNvSpPr/>
            <p:nvPr/>
          </p:nvSpPr>
          <p:spPr>
            <a:xfrm>
              <a:off x="762120" y="5429160"/>
              <a:ext cx="524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卵囊呈圆形或椭圆形，成熟卵囊内含有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子孢子和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残留体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在改良抗酸染色标本中，卵囊呈玫瑰红色，残留体呈暗黑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棕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色颗粒状，粪膜背景为蓝绿色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1" name="组合 3"/>
          <p:cNvGrpSpPr/>
          <p:nvPr/>
        </p:nvGrpSpPr>
        <p:grpSpPr>
          <a:xfrm>
            <a:off x="6021360" y="2133720"/>
            <a:ext cx="2436840" cy="2208240"/>
            <a:chOff x="6021360" y="2133720"/>
            <a:chExt cx="2436840" cy="2208240"/>
          </a:xfrm>
        </p:grpSpPr>
        <p:pic>
          <p:nvPicPr>
            <p:cNvPr id="382" name="图片 13" descr="隐孢子虫卵囊荧光.jpg"/>
            <p:cNvPicPr/>
            <p:nvPr/>
          </p:nvPicPr>
          <p:blipFill>
            <a:blip r:embed="rId3"/>
            <a:stretch/>
          </p:blipFill>
          <p:spPr>
            <a:xfrm>
              <a:off x="6081480" y="2133720"/>
              <a:ext cx="2330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Box 2"/>
            <p:cNvSpPr/>
            <p:nvPr/>
          </p:nvSpPr>
          <p:spPr>
            <a:xfrm>
              <a:off x="6021360" y="3973680"/>
              <a:ext cx="243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免疫荧光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4" name="组合 4"/>
          <p:cNvGrpSpPr/>
          <p:nvPr/>
        </p:nvGrpSpPr>
        <p:grpSpPr>
          <a:xfrm>
            <a:off x="6203520" y="4527720"/>
            <a:ext cx="2198880" cy="2122560"/>
            <a:chOff x="6203520" y="4527720"/>
            <a:chExt cx="2198880" cy="2122560"/>
          </a:xfrm>
        </p:grpSpPr>
        <p:pic>
          <p:nvPicPr>
            <p:cNvPr id="385" name="图片 10" descr="隐孢子虫卵囊（抗酸染色）.jpg"/>
            <p:cNvPicPr/>
            <p:nvPr/>
          </p:nvPicPr>
          <p:blipFill>
            <a:blip r:embed="rId4"/>
            <a:stretch/>
          </p:blipFill>
          <p:spPr>
            <a:xfrm>
              <a:off x="6203520" y="4527720"/>
              <a:ext cx="21988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矩形 12"/>
            <p:cNvSpPr/>
            <p:nvPr/>
          </p:nvSpPr>
          <p:spPr>
            <a:xfrm>
              <a:off x="6604200" y="62820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改良抗酸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50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533520" y="685800"/>
            <a:ext cx="5029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生活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88" name="组合 9"/>
          <p:cNvGrpSpPr/>
          <p:nvPr/>
        </p:nvGrpSpPr>
        <p:grpSpPr>
          <a:xfrm>
            <a:off x="4495680" y="1600200"/>
            <a:ext cx="4170600" cy="3957480"/>
            <a:chOff x="4495680" y="1600200"/>
            <a:chExt cx="4170600" cy="3957480"/>
          </a:xfrm>
        </p:grpSpPr>
        <p:pic>
          <p:nvPicPr>
            <p:cNvPr id="389" name="图片 7" descr="隐孢子虫生活史.jpg"/>
            <p:cNvPicPr/>
            <p:nvPr/>
          </p:nvPicPr>
          <p:blipFill>
            <a:blip r:embed="rId2"/>
            <a:stretch/>
          </p:blipFill>
          <p:spPr>
            <a:xfrm>
              <a:off x="4495680" y="1600200"/>
              <a:ext cx="4170600" cy="39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矩形 8"/>
            <p:cNvSpPr/>
            <p:nvPr/>
          </p:nvSpPr>
          <p:spPr>
            <a:xfrm>
              <a:off x="4549320" y="1659960"/>
              <a:ext cx="128772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91" name="TextBox 10"/>
          <p:cNvSpPr/>
          <p:nvPr/>
        </p:nvSpPr>
        <p:spPr>
          <a:xfrm>
            <a:off x="838080" y="2328840"/>
            <a:ext cx="3581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简单，在同一宿主体内完成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无需转换宿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631080" y="11592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一、形态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1454760" y="907920"/>
            <a:ext cx="3997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蚊唾液腺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5" name="图片 3" descr=""/>
          <p:cNvPicPr/>
          <p:nvPr/>
        </p:nvPicPr>
        <p:blipFill>
          <a:blip r:embed="rId2"/>
          <a:stretch/>
        </p:blipFill>
        <p:spPr>
          <a:xfrm>
            <a:off x="6804000" y="708120"/>
            <a:ext cx="2023920" cy="2433600"/>
          </a:xfrm>
          <a:prstGeom prst="rect">
            <a:avLst/>
          </a:prstGeom>
          <a:ln w="0">
            <a:noFill/>
          </a:ln>
        </p:spPr>
      </p:pic>
      <p:sp>
        <p:nvSpPr>
          <p:cNvPr id="56" name="矩形 4"/>
          <p:cNvSpPr/>
          <p:nvPr/>
        </p:nvSpPr>
        <p:spPr>
          <a:xfrm>
            <a:off x="1530000" y="1684440"/>
            <a:ext cx="4196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内裂殖体，其内含裂殖子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7" name="图片 5" descr=""/>
          <p:cNvPicPr/>
          <p:nvPr/>
        </p:nvPicPr>
        <p:blipFill>
          <a:blip r:embed="rId3"/>
          <a:stretch/>
        </p:blipFill>
        <p:spPr>
          <a:xfrm>
            <a:off x="4456080" y="2362320"/>
            <a:ext cx="2075040" cy="1966680"/>
          </a:xfrm>
          <a:prstGeom prst="rect">
            <a:avLst/>
          </a:prstGeom>
          <a:ln w="0">
            <a:noFill/>
          </a:ln>
        </p:spPr>
      </p:pic>
      <p:sp>
        <p:nvSpPr>
          <p:cNvPr id="58" name="矩形 6"/>
          <p:cNvSpPr/>
          <p:nvPr/>
        </p:nvSpPr>
        <p:spPr>
          <a:xfrm>
            <a:off x="698400" y="2457360"/>
            <a:ext cx="1803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细胞内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5"/>
          <p:cNvSpPr/>
          <p:nvPr/>
        </p:nvSpPr>
        <p:spPr>
          <a:xfrm>
            <a:off x="517680" y="93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517680" y="7016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441360" y="5983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95" name="Picture 19" descr="隐孢子虫生活史小结"/>
          <p:cNvPicPr/>
          <p:nvPr/>
        </p:nvPicPr>
        <p:blipFill>
          <a:blip r:embed="rId2"/>
          <a:stretch/>
        </p:blipFill>
        <p:spPr>
          <a:xfrm>
            <a:off x="730080" y="1066680"/>
            <a:ext cx="8413920" cy="5267520"/>
          </a:xfrm>
          <a:prstGeom prst="rect">
            <a:avLst/>
          </a:prstGeom>
          <a:ln w="9360">
            <a:solidFill>
              <a:srgbClr val="000000"/>
            </a:solidFill>
            <a:prstDash val="dashDot"/>
            <a:miter/>
          </a:ln>
        </p:spPr>
      </p:pic>
      <p:sp>
        <p:nvSpPr>
          <p:cNvPr id="396" name="TextBox 10"/>
          <p:cNvSpPr/>
          <p:nvPr/>
        </p:nvSpPr>
        <p:spPr>
          <a:xfrm>
            <a:off x="5638680" y="3287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7" name="TextBox 11"/>
          <p:cNvSpPr/>
          <p:nvPr/>
        </p:nvSpPr>
        <p:spPr>
          <a:xfrm>
            <a:off x="3211560" y="5006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62a08"/>
                </a:solidFill>
                <a:latin typeface="宋体"/>
              </a:rPr>
              <a:t>配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8" name="TextBox 12"/>
          <p:cNvSpPr/>
          <p:nvPr/>
        </p:nvSpPr>
        <p:spPr>
          <a:xfrm>
            <a:off x="1447920" y="36576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孢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9" name="矩形 1"/>
          <p:cNvSpPr/>
          <p:nvPr/>
        </p:nvSpPr>
        <p:spPr>
          <a:xfrm>
            <a:off x="1866960" y="3274920"/>
            <a:ext cx="3808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0" name="矩形 12"/>
          <p:cNvSpPr/>
          <p:nvPr/>
        </p:nvSpPr>
        <p:spPr>
          <a:xfrm>
            <a:off x="939960" y="3252960"/>
            <a:ext cx="3808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1" name="TextBox 2"/>
          <p:cNvSpPr/>
          <p:nvPr/>
        </p:nvSpPr>
        <p:spPr>
          <a:xfrm>
            <a:off x="2286000" y="201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体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6929280" y="1790640"/>
            <a:ext cx="857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裂体生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4"/>
          <p:cNvSpPr/>
          <p:nvPr/>
        </p:nvSpPr>
        <p:spPr>
          <a:xfrm>
            <a:off x="685800" y="9144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阶段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方式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经口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部位：宿主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肠上皮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刷状缘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活史过程包括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裂体生殖、孢子生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配子生殖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致病机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寄生在肠上皮细胞，破坏肠绒毛结构，影响肠上皮细胞正常功能，特别是脂肪和糖类的吸收功能障碍，导致腹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520560" y="80028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致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6" name="矩形 2"/>
          <p:cNvSpPr/>
          <p:nvPr/>
        </p:nvSpPr>
        <p:spPr>
          <a:xfrm>
            <a:off x="990720" y="3352680"/>
            <a:ext cx="6858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0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临床表现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机会性致病寄生虫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7" name="矩形 4"/>
          <p:cNvSpPr/>
          <p:nvPr/>
        </p:nvSpPr>
        <p:spPr>
          <a:xfrm>
            <a:off x="762120" y="4013280"/>
            <a:ext cx="792468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急性水样腹泻，无脓血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受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霍乱样水泻，并偶可导致肠外隐孢子虫感染，如胆道、呼吸道感染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685800" y="2133720"/>
            <a:ext cx="78487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495360" y="787320"/>
            <a:ext cx="807732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从粪便、痰液或呕吐物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查获卵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确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金胺酚染色法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金胺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改良抗酸染色法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良抗酸染色法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他：免疫学诊断、分子生物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457200" y="4724280"/>
            <a:ext cx="8232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：世界性分布；多种动物宿主、人群普遍易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矩形 2"/>
          <p:cNvSpPr/>
          <p:nvPr/>
        </p:nvSpPr>
        <p:spPr>
          <a:xfrm>
            <a:off x="426960" y="681120"/>
            <a:ext cx="841212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染源：患者、病畜及带虫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播途径：卵囊污染食物、水源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495360" y="2382840"/>
            <a:ext cx="8039160" cy="37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、带虫者和病畜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有效的根治方法，巴龙霉素、螺旋霉素等可能改善临床症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预防为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加强人、畜粪便的管理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个人卫生和饮食卫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免疫功能低下或缺陷人群要加强保护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四种疟原虫形态.jpg"/>
          <p:cNvPicPr/>
          <p:nvPr/>
        </p:nvPicPr>
        <p:blipFill>
          <a:blip r:embed="rId1"/>
          <a:srcRect l="-1618" t="0" r="0" b="-1154"/>
          <a:stretch/>
        </p:blipFill>
        <p:spPr>
          <a:xfrm>
            <a:off x="289080" y="66600"/>
            <a:ext cx="4510080" cy="62913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878040" y="6357960"/>
            <a:ext cx="3857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四种疟原虫红内期形态</a:t>
            </a:r>
            <a:endParaRPr b="1" lang="en-US" sz="1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929120" y="4525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环状体：胞质中央有一空泡，核位于虫体一侧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929120" y="117144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滋养体：虫体明显増大，胞核亦増大但不分裂，胞质中开始岀现疟色素颗粒，被感染的红细胞形态开始发生变化，并可岀现不同形状小点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929120" y="248616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未成熟裂殖体：外形变圆，胞质增多，疟色素颗粒増加，核开始分裂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4929120" y="3284640"/>
            <a:ext cx="39290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成熟裂殖体：核分裂到一定数目，胞质随之分裂，分裂的胞质将每个子细胞核包裹，形成许多裂殖子，疟色素聚集成团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929120" y="43783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配子体：胞核増大但不分裂，胞质增多，最后发育为圆形（间日疟原虫、三日疟原虫和卵形疟原虫）或新月形（恶性疟原虫）的配子体。配子体有雌雄之分，雌配子体胞质致密，核致密而位于虫体边缘，疟色素多而粗大；雄配子体胞质稀薄，核疏松而位于虫体中央，疟色素少而细小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组合 24"/>
          <p:cNvGrpSpPr/>
          <p:nvPr/>
        </p:nvGrpSpPr>
        <p:grpSpPr>
          <a:xfrm>
            <a:off x="712800" y="549360"/>
            <a:ext cx="7675560" cy="4005000"/>
            <a:chOff x="712800" y="549360"/>
            <a:chExt cx="7675560" cy="4005000"/>
          </a:xfrm>
        </p:grpSpPr>
        <p:grpSp>
          <p:nvGrpSpPr>
            <p:cNvPr id="67" name="组合 23"/>
            <p:cNvGrpSpPr/>
            <p:nvPr/>
          </p:nvGrpSpPr>
          <p:grpSpPr>
            <a:xfrm>
              <a:off x="712800" y="549360"/>
              <a:ext cx="7675560" cy="4005000"/>
              <a:chOff x="712800" y="549360"/>
              <a:chExt cx="7675560" cy="4005000"/>
            </a:xfrm>
          </p:grpSpPr>
          <p:grpSp>
            <p:nvGrpSpPr>
              <p:cNvPr id="68" name="组合 19"/>
              <p:cNvGrpSpPr/>
              <p:nvPr/>
            </p:nvGrpSpPr>
            <p:grpSpPr>
              <a:xfrm>
                <a:off x="712800" y="549360"/>
                <a:ext cx="7675560" cy="1856520"/>
                <a:chOff x="712800" y="549360"/>
                <a:chExt cx="7675560" cy="1856520"/>
              </a:xfrm>
            </p:grpSpPr>
            <p:pic>
              <p:nvPicPr>
                <p:cNvPr id="69" name="图片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496200" y="565920"/>
                  <a:ext cx="1892160" cy="18399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0" name="组合 12"/>
                <p:cNvGrpSpPr/>
                <p:nvPr/>
              </p:nvGrpSpPr>
              <p:grpSpPr>
                <a:xfrm>
                  <a:off x="712800" y="549360"/>
                  <a:ext cx="2347200" cy="1856520"/>
                  <a:chOff x="712800" y="549360"/>
                  <a:chExt cx="2347200" cy="1856520"/>
                </a:xfrm>
              </p:grpSpPr>
              <p:pic>
                <p:nvPicPr>
                  <p:cNvPr id="71" name="图片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0" y="549360"/>
                    <a:ext cx="2347200" cy="18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" name="TextBox 18"/>
                  <p:cNvSpPr/>
                  <p:nvPr/>
                </p:nvSpPr>
                <p:spPr>
                  <a:xfrm>
                    <a:off x="1150920" y="195120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环状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73" name="组合 13"/>
                <p:cNvGrpSpPr/>
                <p:nvPr/>
              </p:nvGrpSpPr>
              <p:grpSpPr>
                <a:xfrm>
                  <a:off x="3699720" y="572040"/>
                  <a:ext cx="2160000" cy="1833840"/>
                  <a:chOff x="3699720" y="572040"/>
                  <a:chExt cx="2160000" cy="1833840"/>
                </a:xfrm>
              </p:grpSpPr>
              <p:pic>
                <p:nvPicPr>
                  <p:cNvPr id="74" name="图片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9720" y="572040"/>
                    <a:ext cx="2160000" cy="18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" name="TextBox 16"/>
                  <p:cNvSpPr/>
                  <p:nvPr/>
                </p:nvSpPr>
                <p:spPr>
                  <a:xfrm>
                    <a:off x="4012920" y="197352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滋养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  <p:grpSp>
            <p:nvGrpSpPr>
              <p:cNvPr id="76" name="组合 22"/>
              <p:cNvGrpSpPr/>
              <p:nvPr/>
            </p:nvGrpSpPr>
            <p:grpSpPr>
              <a:xfrm>
                <a:off x="1566360" y="2405880"/>
                <a:ext cx="5767920" cy="2148480"/>
                <a:chOff x="1566360" y="2405880"/>
                <a:chExt cx="5767920" cy="2148480"/>
              </a:xfrm>
            </p:grpSpPr>
            <p:grpSp>
              <p:nvGrpSpPr>
                <p:cNvPr id="77" name="组合 20"/>
                <p:cNvGrpSpPr/>
                <p:nvPr/>
              </p:nvGrpSpPr>
              <p:grpSpPr>
                <a:xfrm>
                  <a:off x="1566360" y="2405880"/>
                  <a:ext cx="2179080" cy="2148480"/>
                  <a:chOff x="1566360" y="2405880"/>
                  <a:chExt cx="2179080" cy="2148480"/>
                </a:xfrm>
              </p:grpSpPr>
              <p:pic>
                <p:nvPicPr>
                  <p:cNvPr id="78" name="图片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66360" y="2405880"/>
                    <a:ext cx="21790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" name="TextBox 11"/>
                  <p:cNvSpPr/>
                  <p:nvPr/>
                </p:nvSpPr>
                <p:spPr>
                  <a:xfrm>
                    <a:off x="1855440" y="3990960"/>
                    <a:ext cx="1636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雌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80" name="组合 21"/>
                <p:cNvGrpSpPr/>
                <p:nvPr/>
              </p:nvGrpSpPr>
              <p:grpSpPr>
                <a:xfrm>
                  <a:off x="5061600" y="2405880"/>
                  <a:ext cx="2272680" cy="2148480"/>
                  <a:chOff x="5061600" y="2405880"/>
                  <a:chExt cx="2272680" cy="2148480"/>
                </a:xfrm>
              </p:grpSpPr>
              <p:pic>
                <p:nvPicPr>
                  <p:cNvPr id="81" name="图片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1600" y="2405880"/>
                    <a:ext cx="22726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" name="TextBox 9"/>
                  <p:cNvSpPr/>
                  <p:nvPr/>
                </p:nvSpPr>
                <p:spPr>
                  <a:xfrm>
                    <a:off x="5456160" y="3994200"/>
                    <a:ext cx="163656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雄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</p:grpSp>
        <p:sp>
          <p:nvSpPr>
            <p:cNvPr id="83" name="TextBox 3"/>
            <p:cNvSpPr/>
            <p:nvPr/>
          </p:nvSpPr>
          <p:spPr>
            <a:xfrm>
              <a:off x="6689880" y="1973160"/>
              <a:ext cx="15714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间日疟裂殖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84" name="组合 32"/>
          <p:cNvGrpSpPr/>
          <p:nvPr/>
        </p:nvGrpSpPr>
        <p:grpSpPr>
          <a:xfrm>
            <a:off x="250920" y="2627280"/>
            <a:ext cx="8466120" cy="3429000"/>
            <a:chOff x="250920" y="2627280"/>
            <a:chExt cx="8466120" cy="3429000"/>
          </a:xfrm>
        </p:grpSpPr>
        <p:pic>
          <p:nvPicPr>
            <p:cNvPr id="85" name="图片 27" descr="Pf ring.jpg"/>
            <p:cNvPicPr/>
            <p:nvPr/>
          </p:nvPicPr>
          <p:blipFill>
            <a:blip r:embed="rId7"/>
            <a:srcRect l="0" t="3642" r="0" b="0"/>
            <a:stretch/>
          </p:blipFill>
          <p:spPr>
            <a:xfrm>
              <a:off x="250920" y="2627280"/>
              <a:ext cx="26254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图片 28" descr="Pf male.jpg"/>
            <p:cNvPicPr/>
            <p:nvPr/>
          </p:nvPicPr>
          <p:blipFill>
            <a:blip r:embed="rId8"/>
            <a:srcRect l="0" t="2346" r="0" b="0"/>
            <a:stretch/>
          </p:blipFill>
          <p:spPr>
            <a:xfrm>
              <a:off x="6180480" y="3022560"/>
              <a:ext cx="2536560" cy="211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29" descr="Pf female.jpg"/>
            <p:cNvPicPr/>
            <p:nvPr/>
          </p:nvPicPr>
          <p:blipFill>
            <a:blip r:embed="rId9"/>
            <a:stretch/>
          </p:blipFill>
          <p:spPr>
            <a:xfrm>
              <a:off x="3345840" y="3022560"/>
              <a:ext cx="235296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23"/>
            <p:cNvSpPr/>
            <p:nvPr/>
          </p:nvSpPr>
          <p:spPr>
            <a:xfrm>
              <a:off x="3686400" y="473724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雌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89" name="TextBox 24"/>
            <p:cNvSpPr/>
            <p:nvPr/>
          </p:nvSpPr>
          <p:spPr>
            <a:xfrm>
              <a:off x="6686640" y="472932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雄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90" name="矩形 25"/>
          <p:cNvSpPr/>
          <p:nvPr/>
        </p:nvSpPr>
        <p:spPr>
          <a:xfrm>
            <a:off x="2006640" y="1557360"/>
            <a:ext cx="5057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恶性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外周血中仅可见环状体和配子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324000" y="428760"/>
            <a:ext cx="8605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蚊体内进行有性生殖和配子生殖：配子、合子、动合子、卵囊、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92" name="组合 12"/>
          <p:cNvGrpSpPr/>
          <p:nvPr/>
        </p:nvGrpSpPr>
        <p:grpSpPr>
          <a:xfrm>
            <a:off x="533520" y="1793880"/>
            <a:ext cx="7467480" cy="4849920"/>
            <a:chOff x="533520" y="1793880"/>
            <a:chExt cx="7467480" cy="4849920"/>
          </a:xfrm>
        </p:grpSpPr>
        <p:grpSp>
          <p:nvGrpSpPr>
            <p:cNvPr id="93" name="组合 6"/>
            <p:cNvGrpSpPr/>
            <p:nvPr/>
          </p:nvGrpSpPr>
          <p:grpSpPr>
            <a:xfrm>
              <a:off x="533520" y="1822320"/>
              <a:ext cx="4610160" cy="1892160"/>
              <a:chOff x="533520" y="1822320"/>
              <a:chExt cx="4610160" cy="1892160"/>
            </a:xfrm>
          </p:grpSpPr>
          <p:pic>
            <p:nvPicPr>
              <p:cNvPr id="94" name="图片 2" descr="配子.jpg"/>
              <p:cNvPicPr/>
              <p:nvPr/>
            </p:nvPicPr>
            <p:blipFill>
              <a:blip r:embed="rId2"/>
              <a:stretch/>
            </p:blipFill>
            <p:spPr>
              <a:xfrm>
                <a:off x="533520" y="1822320"/>
                <a:ext cx="1942920" cy="189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TextBox 3"/>
              <p:cNvSpPr/>
              <p:nvPr/>
            </p:nvSpPr>
            <p:spPr>
              <a:xfrm>
                <a:off x="2176560" y="1939680"/>
                <a:ext cx="296712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雄配子体的“出丝现象”，形成雄配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6" name="组合 8"/>
            <p:cNvGrpSpPr/>
            <p:nvPr/>
          </p:nvGrpSpPr>
          <p:grpSpPr>
            <a:xfrm>
              <a:off x="5537160" y="1793880"/>
              <a:ext cx="2463840" cy="1842120"/>
              <a:chOff x="5537160" y="1793880"/>
              <a:chExt cx="2463840" cy="1842120"/>
            </a:xfrm>
          </p:grpSpPr>
          <p:pic>
            <p:nvPicPr>
              <p:cNvPr id="97" name="图片 5" descr="动合子.jpg"/>
              <p:cNvPicPr/>
              <p:nvPr/>
            </p:nvPicPr>
            <p:blipFill>
              <a:blip r:embed="rId3"/>
              <a:stretch/>
            </p:blipFill>
            <p:spPr>
              <a:xfrm>
                <a:off x="5537160" y="1793880"/>
                <a:ext cx="2463840" cy="180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Box 7"/>
              <p:cNvSpPr/>
              <p:nvPr/>
            </p:nvSpPr>
            <p:spPr>
              <a:xfrm>
                <a:off x="5559120" y="3103200"/>
                <a:ext cx="12146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动合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9" name="组合 11"/>
            <p:cNvGrpSpPr/>
            <p:nvPr/>
          </p:nvGrpSpPr>
          <p:grpSpPr>
            <a:xfrm>
              <a:off x="3306960" y="3000240"/>
              <a:ext cx="3714840" cy="3643560"/>
              <a:chOff x="3306960" y="3000240"/>
              <a:chExt cx="3714840" cy="3643560"/>
            </a:xfrm>
          </p:grpSpPr>
          <p:pic>
            <p:nvPicPr>
              <p:cNvPr id="100" name="图片 9" descr="卵囊.jpg"/>
              <p:cNvPicPr/>
              <p:nvPr/>
            </p:nvPicPr>
            <p:blipFill>
              <a:blip r:embed="rId4"/>
              <a:srcRect l="2891" t="0" r="0" b="0"/>
              <a:stretch/>
            </p:blipFill>
            <p:spPr>
              <a:xfrm>
                <a:off x="3306960" y="3000240"/>
                <a:ext cx="1773360" cy="364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TextBox 10"/>
              <p:cNvSpPr/>
              <p:nvPr/>
            </p:nvSpPr>
            <p:spPr>
              <a:xfrm>
                <a:off x="4735800" y="5893920"/>
                <a:ext cx="228600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蚊胃中的卵囊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</p:spTree>
  </p:cSld>
  <p:transition spd="slow"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15"/>
          <p:cNvGrpSpPr/>
          <p:nvPr/>
        </p:nvGrpSpPr>
        <p:grpSpPr>
          <a:xfrm>
            <a:off x="6846840" y="2276640"/>
            <a:ext cx="2189160" cy="2318400"/>
            <a:chOff x="6846840" y="2276640"/>
            <a:chExt cx="2189160" cy="2318400"/>
          </a:xfrm>
        </p:grpSpPr>
        <p:pic>
          <p:nvPicPr>
            <p:cNvPr id="103" name="图片 13" descr=""/>
            <p:cNvPicPr/>
            <p:nvPr/>
          </p:nvPicPr>
          <p:blipFill>
            <a:blip r:embed="rId2"/>
            <a:stretch/>
          </p:blipFill>
          <p:spPr>
            <a:xfrm>
              <a:off x="6846840" y="2276640"/>
              <a:ext cx="2189160" cy="22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14"/>
            <p:cNvSpPr/>
            <p:nvPr/>
          </p:nvSpPr>
          <p:spPr>
            <a:xfrm>
              <a:off x="7494840" y="3917160"/>
              <a:ext cx="11091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宋体"/>
                </a:rPr>
                <a:t>肝细胞内的休眠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751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生活史（以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间日疟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为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505320" y="838080"/>
            <a:ext cx="0" cy="571500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759040" y="148896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89548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2921040" y="20574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1752480" y="17668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子孢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962520" y="1766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肝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295280" y="914400"/>
            <a:ext cx="609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5943600" y="914400"/>
            <a:ext cx="609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人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3505320" y="3886200"/>
            <a:ext cx="5638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8862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3886200" y="388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7" name="Line 16"/>
          <p:cNvSpPr/>
          <p:nvPr/>
        </p:nvSpPr>
        <p:spPr>
          <a:xfrm flipV="1">
            <a:off x="5867280" y="1600200"/>
            <a:ext cx="3049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5867280" y="205740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609588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8077320" y="16765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8381880" y="1447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休眠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6095880" y="2133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6934320" y="25909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6324480" y="31640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6934320" y="3657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5508720" y="2610000"/>
            <a:ext cx="14475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7772400" y="335268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7772400" y="395280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640080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环状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0" name="Text Box 30">
            <a:hlinkClick r:id="rId3" action="ppaction://hlinksldjump"/>
          </p:cNvPr>
          <p:cNvSpPr/>
          <p:nvPr/>
        </p:nvSpPr>
        <p:spPr>
          <a:xfrm>
            <a:off x="784872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1" name="Text Box 31"/>
          <p:cNvSpPr/>
          <p:nvPr/>
        </p:nvSpPr>
        <p:spPr>
          <a:xfrm>
            <a:off x="640080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525780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33" name="Group 37"/>
          <p:cNvGrpSpPr/>
          <p:nvPr/>
        </p:nvGrpSpPr>
        <p:grpSpPr>
          <a:xfrm>
            <a:off x="7467480" y="4573440"/>
            <a:ext cx="914400" cy="607680"/>
            <a:chOff x="7467480" y="4573440"/>
            <a:chExt cx="914400" cy="607680"/>
          </a:xfrm>
        </p:grpSpPr>
        <p:sp>
          <p:nvSpPr>
            <p:cNvPr id="134" name="Arc 33"/>
            <p:cNvSpPr/>
            <p:nvPr/>
          </p:nvSpPr>
          <p:spPr>
            <a:xfrm>
              <a:off x="7467480" y="4573440"/>
              <a:ext cx="914400" cy="5770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8381880" y="509400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36" name="Group 47"/>
          <p:cNvGrpSpPr/>
          <p:nvPr/>
        </p:nvGrpSpPr>
        <p:grpSpPr>
          <a:xfrm>
            <a:off x="7467120" y="5562360"/>
            <a:ext cx="990720" cy="609840"/>
            <a:chOff x="7467120" y="5562360"/>
            <a:chExt cx="990720" cy="609840"/>
          </a:xfrm>
        </p:grpSpPr>
        <p:sp>
          <p:nvSpPr>
            <p:cNvPr id="137" name="Arc 45"/>
            <p:cNvSpPr/>
            <p:nvPr/>
          </p:nvSpPr>
          <p:spPr>
            <a:xfrm flipV="1">
              <a:off x="7467480" y="5562000"/>
              <a:ext cx="990360" cy="60948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-360 h 609480"/>
                <a:gd name="textAreaBottom" fmla="*/ 609480 h 60948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8" name="Line 46"/>
            <p:cNvSpPr/>
            <p:nvPr/>
          </p:nvSpPr>
          <p:spPr>
            <a:xfrm flipH="1">
              <a:off x="7467120" y="6172200"/>
              <a:ext cx="8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39" name="Text Box 52"/>
          <p:cNvSpPr/>
          <p:nvPr/>
        </p:nvSpPr>
        <p:spPr>
          <a:xfrm>
            <a:off x="6324480" y="4991040"/>
            <a:ext cx="14479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0" name="Text Box 53"/>
          <p:cNvSpPr/>
          <p:nvPr/>
        </p:nvSpPr>
        <p:spPr>
          <a:xfrm>
            <a:off x="3733920" y="5105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体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1" name="Line 54"/>
          <p:cNvSpPr/>
          <p:nvPr/>
        </p:nvSpPr>
        <p:spPr>
          <a:xfrm flipH="1">
            <a:off x="4952520" y="54100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2" name="Line 55"/>
          <p:cNvSpPr/>
          <p:nvPr/>
        </p:nvSpPr>
        <p:spPr>
          <a:xfrm flipH="1">
            <a:off x="2895480" y="5410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3" name="Text Box 56"/>
          <p:cNvSpPr/>
          <p:nvPr/>
        </p:nvSpPr>
        <p:spPr>
          <a:xfrm>
            <a:off x="2057400" y="5105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44" name="Group 69"/>
          <p:cNvGrpSpPr/>
          <p:nvPr/>
        </p:nvGrpSpPr>
        <p:grpSpPr>
          <a:xfrm>
            <a:off x="5638320" y="5562720"/>
            <a:ext cx="762120" cy="609120"/>
            <a:chOff x="5638320" y="5562720"/>
            <a:chExt cx="762120" cy="609120"/>
          </a:xfrm>
        </p:grpSpPr>
        <p:sp>
          <p:nvSpPr>
            <p:cNvPr id="145" name="Arc 70"/>
            <p:cNvSpPr/>
            <p:nvPr/>
          </p:nvSpPr>
          <p:spPr>
            <a:xfrm flipH="1" flipV="1">
              <a:off x="5637960" y="5593680"/>
              <a:ext cx="762120" cy="578160"/>
            </a:xfrm>
            <a:custGeom>
              <a:avLst/>
              <a:gdLst>
                <a:gd name="textAreaLeft" fmla="*/ -360 w 762120"/>
                <a:gd name="textAreaRight" fmla="*/ 762120 w 762120"/>
                <a:gd name="textAreaTop" fmla="*/ 360 h 578160"/>
                <a:gd name="textAreaBottom" fmla="*/ 578880 h 57816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6" name="Line 71"/>
            <p:cNvSpPr/>
            <p:nvPr/>
          </p:nvSpPr>
          <p:spPr>
            <a:xfrm flipV="1">
              <a:off x="5638320" y="556272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47" name="Group 72"/>
          <p:cNvGrpSpPr/>
          <p:nvPr/>
        </p:nvGrpSpPr>
        <p:grpSpPr>
          <a:xfrm>
            <a:off x="5638320" y="4647960"/>
            <a:ext cx="838440" cy="533520"/>
            <a:chOff x="5638320" y="4647960"/>
            <a:chExt cx="838440" cy="533520"/>
          </a:xfrm>
        </p:grpSpPr>
        <p:sp>
          <p:nvSpPr>
            <p:cNvPr id="148" name="Arc 73"/>
            <p:cNvSpPr/>
            <p:nvPr/>
          </p:nvSpPr>
          <p:spPr>
            <a:xfrm flipV="1" rot="10800000">
              <a:off x="5638320" y="4647960"/>
              <a:ext cx="838440" cy="5331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-360 h 533160"/>
                <a:gd name="textAreaBottom" fmla="*/ 533160 h 53316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9" name="Line 74"/>
            <p:cNvSpPr/>
            <p:nvPr/>
          </p:nvSpPr>
          <p:spPr>
            <a:xfrm>
              <a:off x="6406920" y="4647960"/>
              <a:ext cx="6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50" name="AutoShape 87">
            <a:hlinkClick r:id="rId4" action="ppaction://hlinksldjump"/>
          </p:cNvPr>
          <p:cNvSpPr/>
          <p:nvPr/>
        </p:nvSpPr>
        <p:spPr>
          <a:xfrm>
            <a:off x="8791560" y="6478560"/>
            <a:ext cx="304920" cy="3240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24000"/>
              <a:gd name="textAreaBottom" fmla="*/ 304560 h 324000"/>
            </a:gdLst>
            <a:ahLst/>
            <a:rect l="textAreaLeft" t="textAreaTop" r="textAreaRight" b="textAreaBottom"/>
            <a:pathLst>
              <a:path w="21600" h="22950">
                <a:moveTo>
                  <a:pt x="0" y="0"/>
                </a:moveTo>
                <a:lnTo>
                  <a:pt x="21600" y="0"/>
                </a:lnTo>
                <a:lnTo>
                  <a:pt x="21600" y="22950"/>
                </a:lnTo>
                <a:lnTo>
                  <a:pt x="0" y="22950"/>
                </a:lnTo>
                <a:close/>
              </a:path>
              <a:path fill="lightenLess" w="21600" h="229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50">
                <a:moveTo>
                  <a:pt x="21600" y="0"/>
                </a:moveTo>
                <a:lnTo>
                  <a:pt x="21600" y="22950"/>
                </a:lnTo>
                <a:lnTo>
                  <a:pt x="20200" y="21550"/>
                </a:lnTo>
                <a:lnTo>
                  <a:pt x="20200" y="1400"/>
                </a:lnTo>
                <a:close/>
              </a:path>
              <a:path fill="darkenLess" w="21600" h="22950">
                <a:moveTo>
                  <a:pt x="21600" y="22950"/>
                </a:moveTo>
                <a:lnTo>
                  <a:pt x="0" y="22950"/>
                </a:lnTo>
                <a:lnTo>
                  <a:pt x="1400" y="21550"/>
                </a:lnTo>
                <a:lnTo>
                  <a:pt x="20200" y="21550"/>
                </a:lnTo>
                <a:close/>
              </a:path>
              <a:path fill="lighten" w="21600" h="22950">
                <a:moveTo>
                  <a:pt x="0" y="229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50"/>
                </a:lnTo>
                <a:close/>
              </a:path>
              <a:path fill="darken" w="21600" h="22950">
                <a:moveTo>
                  <a:pt x="3794" y="4469"/>
                </a:moveTo>
                <a:lnTo>
                  <a:pt x="17806" y="11475"/>
                </a:lnTo>
                <a:lnTo>
                  <a:pt x="3794" y="18481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51" name="Line 95"/>
          <p:cNvSpPr/>
          <p:nvPr/>
        </p:nvSpPr>
        <p:spPr>
          <a:xfrm flipV="1">
            <a:off x="1068840" y="2011680"/>
            <a:ext cx="740520" cy="457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52" name="Group 97"/>
          <p:cNvGrpSpPr/>
          <p:nvPr/>
        </p:nvGrpSpPr>
        <p:grpSpPr>
          <a:xfrm>
            <a:off x="76320" y="3505320"/>
            <a:ext cx="1371600" cy="1076040"/>
            <a:chOff x="76320" y="3505320"/>
            <a:chExt cx="1371600" cy="1076040"/>
          </a:xfrm>
        </p:grpSpPr>
        <p:sp>
          <p:nvSpPr>
            <p:cNvPr id="153" name="Text Box 58"/>
            <p:cNvSpPr/>
            <p:nvPr/>
          </p:nvSpPr>
          <p:spPr>
            <a:xfrm>
              <a:off x="763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动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54" name="Line 93"/>
            <p:cNvSpPr/>
            <p:nvPr/>
          </p:nvSpPr>
          <p:spPr>
            <a:xfrm>
              <a:off x="755640" y="4005360"/>
              <a:ext cx="431640" cy="57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55" name="Group 96"/>
          <p:cNvGrpSpPr/>
          <p:nvPr/>
        </p:nvGrpSpPr>
        <p:grpSpPr>
          <a:xfrm>
            <a:off x="838080" y="4495680"/>
            <a:ext cx="1268640" cy="916200"/>
            <a:chOff x="838080" y="4495680"/>
            <a:chExt cx="1268640" cy="916200"/>
          </a:xfrm>
        </p:grpSpPr>
        <p:sp>
          <p:nvSpPr>
            <p:cNvPr id="156" name="Text Box 57"/>
            <p:cNvSpPr/>
            <p:nvPr/>
          </p:nvSpPr>
          <p:spPr>
            <a:xfrm>
              <a:off x="838080" y="44956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98640" y="4645080"/>
              <a:ext cx="152280" cy="609120"/>
              <a:chOff x="1898640" y="4645080"/>
              <a:chExt cx="152280" cy="609120"/>
            </a:xfrm>
          </p:grpSpPr>
          <p:sp>
            <p:nvSpPr>
              <p:cNvPr id="158" name="Oval 61"/>
              <p:cNvSpPr/>
              <p:nvPr/>
            </p:nvSpPr>
            <p:spPr>
              <a:xfrm>
                <a:off x="1898640" y="48733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59" name="Line 62"/>
              <p:cNvSpPr/>
              <p:nvPr/>
            </p:nvSpPr>
            <p:spPr>
              <a:xfrm>
                <a:off x="1974960" y="464508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>
                <a:off x="1898640" y="510192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>
                <a:off x="1974960" y="502596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sp>
          <p:nvSpPr>
            <p:cNvPr id="162" name="Line 92"/>
            <p:cNvSpPr/>
            <p:nvPr/>
          </p:nvSpPr>
          <p:spPr>
            <a:xfrm>
              <a:off x="1386000" y="4979880"/>
              <a:ext cx="720720" cy="43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63" name="Group 98"/>
          <p:cNvGrpSpPr/>
          <p:nvPr/>
        </p:nvGrpSpPr>
        <p:grpSpPr>
          <a:xfrm>
            <a:off x="533520" y="2438280"/>
            <a:ext cx="990360" cy="1206720"/>
            <a:chOff x="533520" y="2438280"/>
            <a:chExt cx="990360" cy="1206720"/>
          </a:xfrm>
        </p:grpSpPr>
        <p:sp>
          <p:nvSpPr>
            <p:cNvPr id="164" name="Text Box 59"/>
            <p:cNvSpPr/>
            <p:nvPr/>
          </p:nvSpPr>
          <p:spPr>
            <a:xfrm>
              <a:off x="5335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卵囊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5" name="Text Box 85"/>
            <p:cNvSpPr/>
            <p:nvPr/>
          </p:nvSpPr>
          <p:spPr>
            <a:xfrm>
              <a:off x="68580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蚊胃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6" name="Line 94"/>
            <p:cNvSpPr/>
            <p:nvPr/>
          </p:nvSpPr>
          <p:spPr>
            <a:xfrm flipH="1">
              <a:off x="610920" y="2924280"/>
              <a:ext cx="144360" cy="72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67" name="Line 95"/>
          <p:cNvSpPr/>
          <p:nvPr/>
        </p:nvSpPr>
        <p:spPr>
          <a:xfrm flipH="1">
            <a:off x="7093080" y="2270880"/>
            <a:ext cx="1358640" cy="912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7623000" y="2649600"/>
            <a:ext cx="15274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复苏后进行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致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潜伏期：子孢子侵入人体到疟疾发作前这段时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990720"/>
            <a:ext cx="87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的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三大基本症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周期性寒热发作、贫血和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57200" y="342900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发作：周期性寒热发作（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寒战、高热、出汗退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52280" y="533520"/>
            <a:ext cx="4800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内期裂殖子胀破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74" name="Group 40"/>
          <p:cNvGrpSpPr/>
          <p:nvPr/>
        </p:nvGrpSpPr>
        <p:grpSpPr>
          <a:xfrm>
            <a:off x="4800600" y="266760"/>
            <a:ext cx="914400" cy="1447920"/>
            <a:chOff x="4800600" y="266760"/>
            <a:chExt cx="914400" cy="1447920"/>
          </a:xfrm>
        </p:grpSpPr>
        <p:sp>
          <p:nvSpPr>
            <p:cNvPr id="175" name="Line 3"/>
            <p:cNvSpPr/>
            <p:nvPr/>
          </p:nvSpPr>
          <p:spPr>
            <a:xfrm>
              <a:off x="4800600" y="100980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76" name="AutoShape 4"/>
            <p:cNvSpPr/>
            <p:nvPr/>
          </p:nvSpPr>
          <p:spPr>
            <a:xfrm>
              <a:off x="5410080" y="266760"/>
              <a:ext cx="304920" cy="14479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77" name="AutoShape 8"/>
          <p:cNvSpPr/>
          <p:nvPr/>
        </p:nvSpPr>
        <p:spPr>
          <a:xfrm flipH="1">
            <a:off x="8457480" y="2286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04920" y="1892160"/>
            <a:ext cx="19047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血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3581280"/>
            <a:ext cx="56386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虫体代谢产物（外源性热原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0" y="2971800"/>
            <a:ext cx="2286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源性热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7391520" y="2438280"/>
            <a:ext cx="68580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82" name="Group 46"/>
          <p:cNvGrpSpPr/>
          <p:nvPr/>
        </p:nvGrpSpPr>
        <p:grpSpPr>
          <a:xfrm>
            <a:off x="5200200" y="2971800"/>
            <a:ext cx="3562920" cy="1263240"/>
            <a:chOff x="5200200" y="2971800"/>
            <a:chExt cx="3562920" cy="1263240"/>
          </a:xfrm>
        </p:grpSpPr>
        <p:sp>
          <p:nvSpPr>
            <p:cNvPr id="183" name="Text Box 33"/>
            <p:cNvSpPr/>
            <p:nvPr/>
          </p:nvSpPr>
          <p:spPr>
            <a:xfrm>
              <a:off x="5943600" y="2971800"/>
              <a:ext cx="281952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作用于下丘脑体温调节中枢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84" name="Group 45"/>
            <p:cNvGrpSpPr/>
            <p:nvPr/>
          </p:nvGrpSpPr>
          <p:grpSpPr>
            <a:xfrm>
              <a:off x="5200200" y="3200400"/>
              <a:ext cx="895680" cy="914400"/>
              <a:chOff x="5200200" y="3200400"/>
              <a:chExt cx="895680" cy="914400"/>
            </a:xfrm>
          </p:grpSpPr>
          <p:sp>
            <p:nvSpPr>
              <p:cNvPr id="185" name="AutoShape 15"/>
              <p:cNvSpPr/>
              <p:nvPr/>
            </p:nvSpPr>
            <p:spPr>
              <a:xfrm flipH="1">
                <a:off x="5199840" y="3200400"/>
                <a:ext cx="304920" cy="914400"/>
              </a:xfrm>
              <a:custGeom>
                <a:avLst/>
                <a:gdLst>
                  <a:gd name="textAreaLeft" fmla="*/ 194760 w 304920"/>
                  <a:gd name="textAreaRight" fmla="*/ 305280 w 30492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86" name="Line 20"/>
              <p:cNvSpPr/>
              <p:nvPr/>
            </p:nvSpPr>
            <p:spPr>
              <a:xfrm>
                <a:off x="5486400" y="3657600"/>
                <a:ext cx="609480" cy="0"/>
              </a:xfrm>
              <a:prstGeom prst="line">
                <a:avLst/>
              </a:prstGeom>
              <a:ln w="57240">
                <a:solidFill>
                  <a:srgbClr val="cc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grpSp>
        <p:nvGrpSpPr>
          <p:cNvPr id="187" name="Group 43"/>
          <p:cNvGrpSpPr/>
          <p:nvPr/>
        </p:nvGrpSpPr>
        <p:grpSpPr>
          <a:xfrm>
            <a:off x="2209680" y="1981080"/>
            <a:ext cx="5181840" cy="630000"/>
            <a:chOff x="2209680" y="1981080"/>
            <a:chExt cx="5181840" cy="630000"/>
          </a:xfrm>
        </p:grpSpPr>
        <p:sp>
          <p:nvSpPr>
            <p:cNvPr id="188" name="Text Box 11"/>
            <p:cNvSpPr/>
            <p:nvPr/>
          </p:nvSpPr>
          <p:spPr>
            <a:xfrm>
              <a:off x="2895480" y="1981080"/>
              <a:ext cx="449604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被多形核白细胞和巨噬细胞吞噬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89" name="Line 22"/>
            <p:cNvSpPr/>
            <p:nvPr/>
          </p:nvSpPr>
          <p:spPr>
            <a:xfrm>
              <a:off x="2209680" y="236232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90" name="Group 51"/>
          <p:cNvGrpSpPr/>
          <p:nvPr/>
        </p:nvGrpSpPr>
        <p:grpSpPr>
          <a:xfrm>
            <a:off x="2647800" y="5335560"/>
            <a:ext cx="2990880" cy="1166040"/>
            <a:chOff x="2647800" y="5335560"/>
            <a:chExt cx="2990880" cy="1166040"/>
          </a:xfrm>
        </p:grpSpPr>
        <p:sp>
          <p:nvSpPr>
            <p:cNvPr id="191" name="Line 26"/>
            <p:cNvSpPr/>
            <p:nvPr/>
          </p:nvSpPr>
          <p:spPr>
            <a:xfrm>
              <a:off x="2647800" y="592596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92" name="Text Box 27"/>
            <p:cNvSpPr/>
            <p:nvPr/>
          </p:nvSpPr>
          <p:spPr>
            <a:xfrm>
              <a:off x="3124080" y="5335560"/>
              <a:ext cx="251460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体温调节中枢恢复正常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93" name="Text Box 30"/>
          <p:cNvSpPr/>
          <p:nvPr/>
        </p:nvSpPr>
        <p:spPr>
          <a:xfrm>
            <a:off x="380880" y="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 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机制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94" name="Group 42"/>
          <p:cNvGrpSpPr/>
          <p:nvPr/>
        </p:nvGrpSpPr>
        <p:grpSpPr>
          <a:xfrm>
            <a:off x="5715000" y="-127080"/>
            <a:ext cx="3067200" cy="2205000"/>
            <a:chOff x="5715000" y="-127080"/>
            <a:chExt cx="3067200" cy="2205000"/>
          </a:xfrm>
        </p:grpSpPr>
        <p:sp>
          <p:nvSpPr>
            <p:cNvPr id="195" name="Text Box 5"/>
            <p:cNvSpPr/>
            <p:nvPr/>
          </p:nvSpPr>
          <p:spPr>
            <a:xfrm>
              <a:off x="5772240" y="-127080"/>
              <a:ext cx="14288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裂殖子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96" name="Group 41"/>
            <p:cNvGrpSpPr/>
            <p:nvPr/>
          </p:nvGrpSpPr>
          <p:grpSpPr>
            <a:xfrm>
              <a:off x="5715000" y="349200"/>
              <a:ext cx="3067200" cy="1728720"/>
              <a:chOff x="5715000" y="349200"/>
              <a:chExt cx="3067200" cy="1728720"/>
            </a:xfrm>
          </p:grpSpPr>
          <p:sp>
            <p:nvSpPr>
              <p:cNvPr id="197" name="Text Box 6"/>
              <p:cNvSpPr/>
              <p:nvPr/>
            </p:nvSpPr>
            <p:spPr>
              <a:xfrm>
                <a:off x="5715000" y="349200"/>
                <a:ext cx="30672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虫体代谢产物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8" name="Text Box 7"/>
              <p:cNvSpPr/>
              <p:nvPr/>
            </p:nvSpPr>
            <p:spPr>
              <a:xfrm>
                <a:off x="5772240" y="1301760"/>
                <a:ext cx="255276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红细胞碎片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9" name="Text Box 31"/>
              <p:cNvSpPr/>
              <p:nvPr/>
            </p:nvSpPr>
            <p:spPr>
              <a:xfrm>
                <a:off x="5734080" y="863640"/>
                <a:ext cx="20574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变性的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Hb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200" name="Line 28"/>
          <p:cNvSpPr/>
          <p:nvPr/>
        </p:nvSpPr>
        <p:spPr>
          <a:xfrm>
            <a:off x="8458200" y="3676680"/>
            <a:ext cx="60948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01" name="Text Box 34"/>
          <p:cNvSpPr/>
          <p:nvPr/>
        </p:nvSpPr>
        <p:spPr>
          <a:xfrm>
            <a:off x="0" y="4495680"/>
            <a:ext cx="3809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温调节发生紊乱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02" name="Group 44"/>
          <p:cNvGrpSpPr/>
          <p:nvPr/>
        </p:nvGrpSpPr>
        <p:grpSpPr>
          <a:xfrm>
            <a:off x="3429000" y="4475160"/>
            <a:ext cx="2419200" cy="776160"/>
            <a:chOff x="3429000" y="4475160"/>
            <a:chExt cx="2419200" cy="776160"/>
          </a:xfrm>
        </p:grpSpPr>
        <p:sp>
          <p:nvSpPr>
            <p:cNvPr id="203" name="Line 24"/>
            <p:cNvSpPr/>
            <p:nvPr/>
          </p:nvSpPr>
          <p:spPr>
            <a:xfrm>
              <a:off x="3429000" y="4944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4019400" y="4475160"/>
              <a:ext cx="18288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61706"/>
                  </a:solidFill>
                  <a:latin typeface="Times New Roman"/>
                </a:rPr>
                <a:t>疟疾发作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5" name="Group 49"/>
          <p:cNvGrpSpPr/>
          <p:nvPr/>
        </p:nvGrpSpPr>
        <p:grpSpPr>
          <a:xfrm>
            <a:off x="5867280" y="4324320"/>
            <a:ext cx="3276720" cy="678600"/>
            <a:chOff x="5867280" y="4324320"/>
            <a:chExt cx="3276720" cy="678600"/>
          </a:xfrm>
        </p:grpSpPr>
        <p:sp>
          <p:nvSpPr>
            <p:cNvPr id="206" name="Line 16"/>
            <p:cNvSpPr/>
            <p:nvPr/>
          </p:nvSpPr>
          <p:spPr>
            <a:xfrm>
              <a:off x="5867280" y="493380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7" name="Text Box 36"/>
            <p:cNvSpPr/>
            <p:nvPr/>
          </p:nvSpPr>
          <p:spPr>
            <a:xfrm>
              <a:off x="6553080" y="4324320"/>
              <a:ext cx="2590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致病物质被吞噬降解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8" name="Group 45"/>
          <p:cNvGrpSpPr/>
          <p:nvPr/>
        </p:nvGrpSpPr>
        <p:grpSpPr>
          <a:xfrm>
            <a:off x="228600" y="5445000"/>
            <a:ext cx="2508120" cy="776160"/>
            <a:chOff x="228600" y="5445000"/>
            <a:chExt cx="2508120" cy="776160"/>
          </a:xfrm>
        </p:grpSpPr>
        <p:sp>
          <p:nvSpPr>
            <p:cNvPr id="209" name="Line 12"/>
            <p:cNvSpPr/>
            <p:nvPr/>
          </p:nvSpPr>
          <p:spPr>
            <a:xfrm>
              <a:off x="22860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0" name="Text Box 37"/>
            <p:cNvSpPr/>
            <p:nvPr/>
          </p:nvSpPr>
          <p:spPr>
            <a:xfrm>
              <a:off x="755640" y="5445000"/>
              <a:ext cx="198108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热原消失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5334120" y="5513400"/>
            <a:ext cx="2514600" cy="776160"/>
            <a:chOff x="5334120" y="5513400"/>
            <a:chExt cx="2514600" cy="776160"/>
          </a:xfrm>
        </p:grpSpPr>
        <p:sp>
          <p:nvSpPr>
            <p:cNvPr id="212" name="Line 38"/>
            <p:cNvSpPr/>
            <p:nvPr/>
          </p:nvSpPr>
          <p:spPr>
            <a:xfrm>
              <a:off x="533412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3" name="Text Box 39"/>
            <p:cNvSpPr/>
            <p:nvPr/>
          </p:nvSpPr>
          <p:spPr>
            <a:xfrm>
              <a:off x="5867280" y="5513400"/>
              <a:ext cx="19814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出汗散热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06:43:48Z</dcterms:created>
  <dc:creator>chf</dc:creator>
  <dc:description/>
  <dc:language>en-US</dc:language>
  <cp:lastModifiedBy>hzg</cp:lastModifiedBy>
  <dcterms:modified xsi:type="dcterms:W3CDTF">2015-10-05T12:44:38Z</dcterms:modified>
  <cp:revision>165</cp:revision>
  <dc:subject/>
  <dc:title>疟    原    虫</dc:title>
</cp:coreProperties>
</file>